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3EB-0B3F-4435-82C8-42856381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6BC-8B5C-4DA5-9626-EA8FECA4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6CF-2DB4-4C87-BE68-928AFE1D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9F0-CE71-4BBD-AE8B-97F7DFEA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0B7-D2C4-47C2-A28D-590C84B9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7861-8F86-47B6-8687-28E8B56C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E82-186D-4FC1-A31F-EAC680F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035-9414-435B-A98E-8483ADE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444-B354-4B0C-A043-593A852C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9E59-E6F8-4223-A8FF-B90C5615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FE3-328E-4483-B616-0745288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82C-29FC-416F-B7E7-1007E777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D54B-B9CD-4F90-A3E9-23675B36F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ly Source of all that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the eternal W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Jesus Chri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easelessly breathing the Spir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cre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trust in God’s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isdo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ully revealed in the huma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esent to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Spirit’s wo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Church and beyo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that God is call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ho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to a future of justice and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hare in Christ’s risen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mit ourselve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rece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ing reign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the only God, Three yet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all honour and glory and pra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08:39Z</dcterms:created>
  <dc:creator>Anon Anon</dc:creator>
  <dc:description/>
  <dc:language>en-US</dc:language>
  <cp:lastModifiedBy>Anon Anon</cp:lastModifiedBy>
  <dcterms:modified xsi:type="dcterms:W3CDTF">2005-08-09T05:03:36Z</dcterms:modified>
  <cp:revision>7</cp:revision>
  <dc:subject/>
  <dc:title>PowerPoint Presentation</dc:title>
</cp:coreProperties>
</file>